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7B33-8EF1-4071-9E0A-9EC4D67E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6E5B-29FE-4F16-BBEF-EC829344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BD4B-06F2-42C5-BFFD-FF05C3D8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3D9D-9C4B-437C-8688-A3920ACA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1B9D-BE7F-4484-A672-BA416CBA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8DAB-0B0B-420B-B706-5CA837BF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2A9C-09C1-4D05-8151-8716089C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A03A-4FB0-4924-B311-2689A230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6FC5-A799-4C96-BD0B-A3D6D50E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64CE-2D81-482A-B0E6-420DA8B2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DD71-E727-431B-AF96-E7277DEE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600-098F-41FE-AB60-5F7E718E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C37D-50E0-4C05-A3C1-2A26634B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6FD5-4BDE-4ACA-A01B-37320993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8A8D-226F-42BA-835A-95C2DA51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4E12-87D5-4B80-8132-9D34071A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3EA6-7079-4B3E-B3E0-C80B1ED1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4174-D5CF-430B-8CFD-F8923AEB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1A0-D7FE-4C60-A9EF-3BD1F20D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321A-4B98-4935-A5F3-73D0D00A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2742-FD2E-46FE-A5FB-2D84A937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E81F-0C65-40FF-ACCC-C30577B5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00DC-8EA7-4B7E-B6EA-C8F2BB21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B0FA-46FC-4522-ADE7-95262A2C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71A4-D1CA-4F56-98D5-5F19DC3A5F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975E-8565-496A-9E75-C5D1555A8D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Неинфективни грануломи кож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coid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oma annul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crobiosis lipoidica diabetic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иференцијална Дг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ТБ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еп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ихен рубер плану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сорија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Гранулома анулар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2 и 3 стадијум сифили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ема специфичне терап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Могућа спонтана резолу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ортико терапија (општа, локална, ИЛ), МТ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,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 хидроксихлорокин, циклоспорин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uloma anul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ронично, бенигно обољењ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ејасна етиологија (ујед инсекта, траума, вируси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ајчешће деца и адолесцен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а </a:t>
            </a: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дорзуму шака, стопала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, лактови, колена, тру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итни, чврсти </a:t>
            </a: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чворићи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 који образују ануларне или полицикличне фигур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44760" y="20178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181480" y="1981080"/>
            <a:ext cx="3657600" cy="2143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181480" y="4114800"/>
            <a:ext cx="3657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омене солитарне или генерализова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истологија: грануломи око огњишта непотпуне некрозе колаге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г: клиничка слика, хистолог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Дг: лихен, саркоидоза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crobiosis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poidica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, тине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Општа терапија (код генерализованих облика): дапсон, ретиноиди, ПУ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окална терапија: КС масти (под оклузијом), интралезиони КС, крио терап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crobiosis lipoidica diabetico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-90%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од дијабетича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&gt;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  <a:ea typeface="Tahoma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  <a:ea typeface="Tahoma"/>
              </a:rPr>
              <a:t>Предилекциона места: претибијално, симетрич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144760" y="20178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3733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Чворић или макула, ружичасто-жуте боје, или мрке боје, који се спајају у овалне плоч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Центар: склератрофичан, жућкаст са телангиектазија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Ивица: уздигнута, чврста, еритематозна или ливид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353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3810240" cy="4114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144760" y="201744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144760" y="4151160"/>
            <a:ext cx="3809880" cy="1981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5410080" y="2057400"/>
            <a:ext cx="3353040" cy="1905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5410080" y="4191120"/>
            <a:ext cx="3353040" cy="1981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1219320" y="2286000"/>
            <a:ext cx="3276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Ток: спонтана резолуција (20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истологија: грануломи у дубљем дерму, са хијалином некрозом колаге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ДГ: гранулома ануларе, саркоидоза, локализована склеродерм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Терапија: КС локално или И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rcoido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Мултисистемско обољење коже, слузокожа и унутрашњих орг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тиологија је непознат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аркоидни антиген 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еверзибилни имунолошки поремећаји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ефицит ћелијског имуните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уморални имунитет је “повишен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Улцерозне дерматоз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Основна ефлоресценција: улцераци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144760" y="20178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3809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арактеристике улку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Локализаци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Обли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еличи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вице: подривене или у равни околне кож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Д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длог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Околи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486400" y="2209680"/>
            <a:ext cx="3276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Етиологија и ДДг улцерац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Обољења артерија (артеријске улцерациј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Хронична венска инсуфицијенција (венске улцерациј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ематолошка обољењ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нфекција: ТБЦ, лепра, дубоке микозе, екти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еоплазм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Етиологија и ДДг улцерац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Трофичке улцерације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lum perforans pedis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Васкулитис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pura Henoch-Schoenle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Венске улцерациј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омпликација варикозитета и ХВ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арикозите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182600" y="4151160"/>
            <a:ext cx="7772400" cy="1981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495680" y="4114800"/>
            <a:ext cx="1676520" cy="2238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172200" y="41148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1219320" y="3886200"/>
            <a:ext cx="3257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429000" y="2133720"/>
            <a:ext cx="3429000" cy="1828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315200" y="3048120"/>
            <a:ext cx="1542960" cy="2962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838080" y="213372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838080" y="4038480"/>
            <a:ext cx="2638440" cy="1733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4038480" y="4038480"/>
            <a:ext cx="2438640" cy="18766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333399"/>
                </a:solidFill>
                <a:latin typeface="Tahoma"/>
              </a:rPr>
              <a:t>Хронична венска инсуфицијенциј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1752480"/>
          <a:ext cx="8268840" cy="5047920"/>
        </p:xfrm>
        <a:graphic>
          <a:graphicData uri="http://schemas.openxmlformats.org/drawingml/2006/table">
            <a:tbl>
              <a:tblPr/>
              <a:tblGrid>
                <a:gridCol w="4134240"/>
                <a:gridCol w="4134600"/>
              </a:tblGrid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лкус са фибринском    наслаг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нзимско чишћење (фиброла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ируршки дебридм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лкус са ексудациј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лажни облози (физиолошки, хиперманган)+ одм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лкус инфицир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лажни обло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рем Сулфадиазин сребро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Б (+/-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лкус чистог д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рем Сулфадиазин среб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идроколоидне компрес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ластери по Гиљеу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рафт кож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Артеријске улцерациј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зроци: атеросклероза, оклузија артерија, емболија, васкуларне колагене болести, васкулитиси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omboanginitis obliter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&gt;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  <a:ea typeface="Tahoma"/>
              </a:rPr>
              <a:t>старији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  <a:ea typeface="Tahoma"/>
              </a:rPr>
              <a:t> же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БОЛ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udicatio intermite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Болови у мир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ојачавају се када пацијент леж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ацијенти преседе целу но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КОЖА: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бледа, хладна, без длака, дистрофични нок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е палпирају се артеријални пулсев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Локализација: стопало, бочне стране потколенице или предео малеолу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Улцерација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дубине 3-4цм, прекривена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мрком есхаром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, дно без гранулациј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Нема варикозите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Гангрена прстију, стопала и/или ног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657600" cy="1952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181480" y="3657600"/>
            <a:ext cx="36576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ајчешће се јавља између 40-50 г.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  <a:ea typeface="Tahoma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  <a:ea typeface="Tahoma"/>
              </a:rPr>
              <a:t>Кожа: специфичне и неспецифичне проме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Опште лечење: Пентоксифил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окално лечење: тоалета ра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ируршко лечење: ампута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lum perforans ped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зроци: дијабетесна неуропатија и неуропатије других етиолог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окализација: стоп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lum perforans ped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Клинички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Ограничена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хиперкератотична плоч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Улцерација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 у центру плоч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БЕЗБОЛНА, не епителизуј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Терапија: основно обољењ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4120" y="2057400"/>
            <a:ext cx="3429000" cy="23432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419720" y="4419720"/>
            <a:ext cx="457200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bus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ynau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зрок: осетљивост артерија на хладноћ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а шакама, ређе стоп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Три етапе: 1. кожа бледа и хлад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2. Цијанотична кож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3. Реактивна хиперем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Ток хроничан, може довести до трофичких проме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Специфичн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олиморфне- папуле, нодуси, инфилтровани плаков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 ожиља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pus pern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Карактеристик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-лупоидан изгле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-негативан феномен сонд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Неспецифичн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ythema nodosum (30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rg_hi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703600"/>
          </a:xfrm>
          <a:prstGeom prst="rect">
            <a:avLst/>
          </a:prstGeom>
          <a:ln w="0">
            <a:noFill/>
          </a:ln>
        </p:spPr>
      </p:pic>
      <p:pic>
        <p:nvPicPr>
          <p:cNvPr id="109" name="rg_hi" descr=""/>
          <p:cNvPicPr/>
          <p:nvPr/>
        </p:nvPicPr>
        <p:blipFill>
          <a:blip r:embed="rId2"/>
          <a:stretch/>
        </p:blipFill>
        <p:spPr>
          <a:xfrm>
            <a:off x="5486400" y="4114800"/>
            <a:ext cx="3124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144760" y="4151160"/>
            <a:ext cx="3809880" cy="1981440"/>
          </a:xfrm>
          <a:prstGeom prst="rect">
            <a:avLst/>
          </a:prstGeom>
          <a:ln w="0">
            <a:noFill/>
          </a:ln>
        </p:spPr>
      </p:pic>
      <p:pic>
        <p:nvPicPr>
          <p:cNvPr id="112" name="rg_hi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3733560" cy="2133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2209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523880" y="4038480"/>
            <a:ext cx="2819520" cy="2590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4648320" y="4191120"/>
            <a:ext cx="4267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лузокоже (нодули и плакови): коњуктиве, носна, тонзиле и д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нутрашњи органи: плућа (80-100%), кости (5%), очи, паротидне жлезде, лакрималне и саливарне жлезде (Микулицев синдром), увећане лимфне жлезде, ЦНС и сви други унутрашњи орга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82600" y="2017800"/>
          <a:ext cx="7772400" cy="44100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лућ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ож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ви стадијум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дијастиналне лимфне жлез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rythema nodos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нтана резолуц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руги стадијум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аренхиматозне про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апуле и ноду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есто спонтана резолуц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потпуна регрес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ећи стадијум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броза плућ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pus per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реверзибилне проме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Хистолог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голи гранулом” без казеозне некроз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Figure 1Spectrum of Pathological Findings in Patients with Sarcoidosis."/>
          <p:cNvPicPr/>
          <p:nvPr/>
        </p:nvPicPr>
        <p:blipFill>
          <a:blip r:embed="rId1"/>
          <a:stretch/>
        </p:blipFill>
        <p:spPr>
          <a:xfrm>
            <a:off x="4648320" y="1828800"/>
            <a:ext cx="4232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ијагно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Прегле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Туберкилин те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К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јмов те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Калцемија,калцуриј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Имуноелектрофореза протеи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РТГ плућ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РТГ ша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Хистологиј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Резулта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Негатива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озитива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овише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овише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овишен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Хиларна аденопатија, паренхиматозне проме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teitis cyst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голи грануло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09:26:39Z</dcterms:created>
  <dc:creator>XP</dc:creator>
  <dc:description/>
  <dc:language>en-US</dc:language>
  <cp:lastModifiedBy>Nebojša Krstić</cp:lastModifiedBy>
  <dcterms:modified xsi:type="dcterms:W3CDTF">2013-09-05T09:36:25Z</dcterms:modified>
  <cp:revision>26</cp:revision>
  <dc:subject/>
  <dc:title>Неинфективни грануломи коже</dc:title>
</cp:coreProperties>
</file>